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BDB-A23A-431B-A79F-DE8B8A40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D80-4204-4CF3-B398-94AB1267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14A-9957-4742-83F1-884B3087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egiovascodagama.pt/ciencias3c/onze/biologiaunidade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911-DAA8-4630-9CEE-AEE4D88B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480-7DDB-4BDC-9ED7-27DC20AB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59C-5DAB-47B3-8098-E24ADE2A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311D-1FC7-4B9C-9435-2A87B7BD2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worldnews.com/articles/7407/20140604/pigs-successful-hosts-of-transplanted-stem-cel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2ABB-DCE2-4415-BF24-CE5B9606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yretiring2.blogspot.ca/2010_06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A67-6450-40AE-B4D7-56C9D3C1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B9BF-9039-479A-AA20-FC83EB90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m.on.ca/en/blog/mighty-burgess-shale-fossil-site-discovered-in-kootenay-national-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62E-CC7D-4860-BAD9-E994147C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CD64-DBC4-4857-BB6A-E2B7BC56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ritagedaily.com/2015/09/testing-the-fossil-record/108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B32-FC99-4FBC-BB21-D1A304D7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F16-8399-44F9-8145-E786B88B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EF2-D126-4BA3-BB8D-916B4EB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2CD-597E-403A-9204-E04E128B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159-6D7F-48F4-88BC-C5FE02DD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7B4-71DE-4F05-89D9-CE6E0D2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84D-3B4A-4EF9-B41A-2CCAA57F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83A-A5EC-4672-92EB-AE5C10BC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2B1-C0B6-4A2A-9112-193897E4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A58-046D-432F-A678-F712C9E2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889-D695-4A89-971B-72F8CC1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17B-0C18-418C-8C0A-4794FB3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567-6ABA-4D9B-96F5-2EE1B90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CC6-ACE5-46A1-9A8E-302D2B82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stro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vier believed that species had not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ggested that a ser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astrop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caused widespread exti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5" descr="72-Darwin-6.jpg"/>
          <p:cNvPicPr/>
          <p:nvPr/>
        </p:nvPicPr>
        <p:blipFill>
          <a:blip r:embed="rId1"/>
          <a:srcRect l="0" t="-30200" r="0" b="-30200"/>
          <a:stretch/>
        </p:blipFill>
        <p:spPr>
          <a:xfrm>
            <a:off x="0" y="126828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Lyell (British lawyer &amp; geologist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ecause it suggested that the Earth was very old &amp; that slow processes could result in large changes such as formation of mountain 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the Earth &amp; all living things had been created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scientist Georges-Louis Leclerc, Comte de Buffon wondered about the extra toes 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g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 Linnaeus &amp; Erasmus Darwin (Charl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dfather) proposed that living organisms had changed over time, but didn’t know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 was proposed by Jean-Baptiste Pierre Antoine de Monet, Chevalier de Lamar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d dis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5" descr="dim.gif"/>
          <p:cNvPicPr/>
          <p:nvPr/>
        </p:nvPicPr>
        <p:blipFill>
          <a:blip r:embed="rId1"/>
          <a:srcRect l="-13027" t="0" r="-1302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iraffe_lamark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dead organisms are mine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onditions are low-oxygen &amp; aquatic (sediment is continually depos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new_arthropod_rom_62976.jpg"/>
          <p:cNvPicPr/>
          <p:nvPr/>
        </p:nvPicPr>
        <p:blipFill>
          <a:blip r:embed="rId1"/>
          <a:srcRect l="0" t="-30990" r="0" b="-3099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ossil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ssils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ossils of most living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very deep below the Earth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s Cuv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ntologist, in his detailed studies of fossils he obser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organisms found throughout, but complex only in shallower layers; shallow organisms resemble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yers contain unique species that do not occur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7-04-12T02:55:11Z</dcterms:modified>
  <cp:revision>87</cp:revision>
  <dc:subject/>
  <dc:title>PowerPoint Presentation</dc:title>
</cp:coreProperties>
</file>